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81D-61A6-439E-9125-78E4662D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BA0-B814-4870-968B-7ED0167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D3C-2F74-49EA-8E7E-7E6B6923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D19-F5AB-40F1-9365-53E160DE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B1E-FE99-443E-8B63-6985D1F5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AE3-9B2F-423E-90E9-4B0C25FF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DFD-1DCD-4137-9DDE-C82F218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317-4792-4CB0-AE09-3D43B4C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74D-654D-47ED-9447-8B3861A6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5B2-DE91-4A06-803A-AC6297AD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DBC-74A6-4FC4-B43A-F5D7431D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415-D152-4673-AACB-592DC1D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4E39-FD9C-4367-90EF-22190E688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wor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anothe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uc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37Z</dcterms:modified>
  <cp:revision>6</cp:revision>
  <dc:subject/>
  <dc:title>Words in a “Snap”</dc:title>
</cp:coreProperties>
</file>